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ELI Sect 3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  <p:custShow name="ELI STP" id="1">
      <p:sldLst>
        <p:sld r:id="rId4"/>
        <p:sld r:id="rId11"/>
        <p:sld r:id="rId12"/>
      </p:sldLst>
    </p:custShow>
    <p:custShow name="Chapter menu" id="2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  <p:custShow name="Test Prep" id="3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thqu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24280" y="61405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>
            <a:hlinkClick r:id="" action="ppaction://hlinkshowjump?jump=nextslide"/>
          </p:cNvPr>
          <p:cNvSpPr/>
          <p:nvPr/>
        </p:nvSpPr>
        <p:spPr>
          <a:xfrm>
            <a:off x="5867280" y="6154560"/>
            <a:ext cx="838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3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thquakes and Societ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8760" y="1498320"/>
            <a:ext cx="77724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and Socie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unami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truction to Buildings and Proper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 Safe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 Warnings and Forecas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 Hypothesis and Seismic Gap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mic Gap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mic g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cientists think that seismic gaps are likely locations of future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seismic gaps that exist along the San Andreas Fault zone may be sites of major earthquakes in the futu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55760" y="689040"/>
            <a:ext cx="8165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Warnings and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8120" y="18014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seismic gaps help predict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13" descr="Untitled-6 copy"/>
          <p:cNvPicPr/>
          <p:nvPr/>
        </p:nvPicPr>
        <p:blipFill>
          <a:blip r:embed="rId1"/>
          <a:stretch/>
        </p:blipFill>
        <p:spPr>
          <a:xfrm>
            <a:off x="942840" y="2548080"/>
            <a:ext cx="7315200" cy="3379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Warnings and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38120" y="19461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eshock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arthquakes are preceded by little earthquake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eshock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ne earthquake has been successfully predicted using foreshock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Warnings and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5760" y="16876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nges in Rock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use sensors to detect slight tilting of the ground cause by stress that builds up in fault zon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racks in rock ar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lso monitor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uture scientists may be able to use these signals to help predict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Warnings and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5760" y="16905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liability of Earthquake Forecas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arthquakes have foreshocks or other precursors, which makes precise earthquake prediction mostly unreliab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ontinue to study seismic activity so that they may one day make accurate forecasts and save more liv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Warnings and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5760" y="1370160"/>
            <a:ext cx="82152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 Hazard Map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7" name="Picture 13" descr="Untitled-7 copya"/>
          <p:cNvPicPr/>
          <p:nvPr/>
        </p:nvPicPr>
        <p:blipFill>
          <a:blip r:embed="rId1"/>
          <a:stretch/>
        </p:blipFill>
        <p:spPr>
          <a:xfrm>
            <a:off x="1981080" y="2006640"/>
            <a:ext cx="5220000" cy="3898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c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ationship between earthquakes and tsunami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ossible effects of a major earthquake on building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safety techniques to prevent injury caused by earthquake activ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methods scientists use to forecast earthquake risk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arthquake injuries result from the collapse of buildings and other structures or from falling objects and flying glas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angers include landslides, explosions caused by broken electric and gas lines, and floodwaters released from collapsing da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sunam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sunami may begin to form when the ocean floor suddenly crops or rises because of faulting associated with undersea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sunami may also be triggered by an underwater landslide caused by an earthquak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sun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st buildings are not designed to withstand the swaying motion caused by earthquak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uilding constructed on loose soil and rock is much more likely to be damaged during an earthquake than a building constructed on solid ground i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truction to Buildings and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28400" y="1498320"/>
            <a:ext cx="8258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ho live near active faults should be ready to follow a few simple earthquake safety rules to help prevent death, injury, and property damag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fore an Earthquak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. Keep an adequate supply of food, water, batteries, flashlights and a radio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an earthquake plan and discuss it with your famil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how to turn off the gas, water, and electricity in your h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Rectangle 1034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uring an Earthquak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 yourself from falling debris by standing in a doorway or crouching under a desk or a tab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away from windows, heavy furniture, and other objects that might topple ov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in a car, stop in a place that is away from tall buildings, tunnels, power lines, or bridges and wait until the tremors ceas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Safety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fter an Earthquak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autiou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fire and other hazard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wear shoes when walking near broken glas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downed power lines and objects touched by downed wir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Rectangle 1034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Safety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study past earthquakes to help them predict where future earthquakes are most likely to occu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records of past earthquakes, scientists are able to make approximate forecasts of future earthquake risk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currently no reliable way to predict exactly when or where an earthquake will occu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44600" y="625320"/>
            <a:ext cx="81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Warnings and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4-02-06T17:45:43Z</dcterms:modified>
  <cp:revision>732</cp:revision>
  <dc:subject/>
  <dc:title>No Slide Title</dc:title>
</cp:coreProperties>
</file>